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D4B0-C54E-475C-80B8-EC506F78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96D4-D875-46D3-B2D5-29CB4CD3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2DC52-26AC-44D3-95EF-DB0F8E50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CDCCD-A5AF-491C-8874-262B764E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8A189-05E1-44D8-AE67-37CC0566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B9613-5FF1-49FD-931B-88CAB4C7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D05B7-0780-4F90-A93C-C6A5D801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6AFDC-B881-4BF2-B731-275F534D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C895A-A322-4B7D-9DBE-0454B665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4851C-2696-418B-B03D-C47E11999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DED1D-C4BC-48EA-B6B2-78ECB869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7884C6-22C5-466C-BC9E-92FF1813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0D88-980C-4742-A3D7-1E794EA0D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DB974-4C4D-4F4E-AEF9-4C09C614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C74D2-FC0D-4D53-ACDC-7640108E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A9305-5DBD-493F-AAAE-88B89F34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50C90-CAE8-4984-95C0-981D9497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B4C66-6200-471C-84EE-E6BCF49F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491AF-8FF2-4B64-9CEF-A9F43FA6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276D0-DEBA-40E2-A587-3A4B0581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03C97-E7A6-4439-9438-1F941511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2C23C-348C-4726-9C53-EFAF5B6B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7B4BB-FD88-40B9-B147-EAB8E4D0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CA5C-EE8A-436B-8086-63A543A90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7A8072-A9DD-4353-9919-C7824A78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F21C3-C9A2-4408-9018-70ED833E6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84C0A-5021-4988-AA11-D4B01D51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6BAE8-9351-4C85-8C0E-48CD0807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46E24-D79F-4D0B-AED9-2564E80C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651C5-B58C-431A-A784-3C741D6F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14339-8142-438D-B557-85B8E9F0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115A3-B776-47F8-8E11-D16DA380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4F9C8-A223-4158-8805-E555FC2B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255C1-6850-4036-9F74-788CDEF7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29DE-8C97-4D3D-98DA-04BB7171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17EB1-9D3D-4964-85D8-51245402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1B9E1-18CA-4FA8-BA16-7D47E06CD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FAEED-1A82-4A36-AEFC-CA64E197D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B0DF49-5935-4300-A7F1-B89968824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07FC7-5D5A-43A9-AB50-C6C01B91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B91ABD-37F7-40C3-A6CD-D7E8988E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25C9F-5A94-4045-BB28-437B9697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6A5FA6-5A75-48D6-AF6D-C0AEC6F0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76FDA-32A3-4956-9910-C26EAFFE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45869B-7798-4C1D-A129-D5E83879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5EBF-748D-4895-B4D8-039BA1D4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A1A70A-D42B-4B90-BEEE-0650BDEC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371ECA-7FAC-4BA1-B2A0-1DAD24FB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0D1ADC-195B-469D-99F4-F60D15E5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596A3-5F56-492C-B809-C2A2702BF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BFE40-0706-468C-B6CB-E6A5EDDC6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4AB7-F6D0-4644-93C5-E20394DF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6CFF-039C-48EA-A398-6D286881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A2F8-AAF4-4E2E-8C9E-CBE32750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99D4-4EE9-49DB-96D6-63777885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F0BC-93F9-4AB1-AE32-D8F455C6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413C-1B5B-4627-9EF1-23B4C275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C94F-6276-45ED-B8C4-892ABE33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EA2F-A177-4138-9AA6-5F2C669A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66B3-89C5-4F7C-A098-B7368618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4334-C100-4A10-8C52-E5A9CDFAC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0E0B-E0D6-4991-982D-A81E25D94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FCD2C-C53D-4DED-87DE-176040916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DBEFA-E4F3-4CA2-BA1F-11582457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3FD28-CDD2-479F-BAAB-E51E3500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9BA92-D313-44C9-9DF7-E04A2577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E0495-2B3D-4548-AF8D-571B16A8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FF4C-63C9-4198-8A86-8737F482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41C65-09D0-435B-9F60-847A782C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B88EF-1B7E-457A-BF6E-6EA7BFDD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EE706-1CEB-4A90-97B0-61DC960B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78367-335E-4333-AA20-75005376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91E12-F502-48B1-B58A-7DA3E9A8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4B78B-2A35-4D27-B85F-16D73EC64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E9C90-296E-4146-BD02-AF42E2073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E7D82-8E54-4FB7-9681-81EF9480C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7B509-749B-4C77-BACA-57A50F4A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39499-8D2C-4B2F-9565-FFCCC3A1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7112-0DA6-46AA-8471-8FE7CA1A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480C3-8E06-4116-9436-925AA248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E32CD-F198-4619-8E26-4C07103B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F308A-5339-4C1A-AD26-2A6A3CA2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637E3-8F1E-4FF2-AC4C-3D61E580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A4251-0B11-4F70-AEA1-5E75C6B8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D81C9-10C6-4313-82D1-805BD17F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FEEE6-92CF-46E3-8FA1-39224022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2F0E3-EB25-4691-BF05-8010246AA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ACD84-D559-4630-B2C4-8B218E168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838F3-2967-45C2-BFBA-70A5AC480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4384-7E4F-4883-A09D-8F260E38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9AA6D-1D57-481E-BD23-2AD2F923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1317A-1F02-4D06-9017-B16FF346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B48A1-6301-457A-B3F1-57EDD9FC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1D3D4-04DB-4931-BD82-03D8AE92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71423-704B-4711-899D-D026223C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620F8-B327-4E00-93B7-9CF705F0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BB7A5-6B7A-49AC-A7DF-20E20105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08AED-EE9B-4CF1-99CE-867121B4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34305-8286-424D-968D-B4BA4775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E3B35-DBAA-4788-8673-CC402B9B3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1C87-01A7-4729-AE1A-7340939A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5E376-8916-4517-9563-DCF6B107F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3FA1F-1F98-4348-AABF-A1FB0471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56EBD-3629-4379-B45C-2ECDE7FE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BB306-9DD9-4298-BA79-7532A560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B9074-55E3-4DF0-8549-536531A1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36971-ECB7-4FD8-8F60-1FF12710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188C0-0547-4122-9B80-BF70B897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08A87-E00D-4E25-84AD-5E699DBB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7F025-6F36-4A3E-8D82-66037BB7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23A9D-8EA3-452D-95E5-74274ADD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F46E-369D-4B17-ADF1-3A13D01E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85D4A-9266-460B-8EB6-F7B4A50C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5427C-0BC1-4A85-ABD4-4F5E18067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B3779-31FF-44E9-AD65-E3E8346F6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FC51A-3C8E-4DC7-B36E-95499C6C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63B4E-B037-43F9-98BD-49F1BDA7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B5AE4-36B6-4C36-AC1E-ABC6E1E1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49D5F-7862-490E-BE6B-8EDF7A6F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497ED-13F9-4C2F-8908-A7A690E3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F269F-CF53-4167-BD8B-F85EC373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230FD-DD29-4C31-BED7-2ADF2AFE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322B-1CDD-4924-9C86-967ACF5B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9EBDF-7FE5-4288-A31F-BC26D42C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52BD6-346B-4439-94B9-E41D2E78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B1E20-BB3B-402E-8B1A-36572FC7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8CE92-7908-451E-8EB8-89EE5C914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C6156-496C-47DE-B5A2-D3395486A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B7A33-B815-4A31-8C54-037C1B13A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1C2A4-8F82-4273-8C3C-369407FA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0C117-3FF1-4112-B2CB-9884FC84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0F520-3DE0-4DF6-971C-76580764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4D435-751C-4C37-BE83-C8864469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6A06-9678-41EE-8EEB-AF365D30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5A36C-2BCA-4524-81FB-5F9677CC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8EA48-774E-454B-B5FD-60EA92D6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C493C-AC9C-4FCE-A9E7-E42C7946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BB2EA-2FA8-428B-B8E2-CDA8136D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0EBF0-AE42-4081-A777-AA641430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C211B-5513-4573-9C23-61AEB1CCF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11A3C-25D0-43BD-9C21-F02923673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4FE67-A513-4CE5-8410-A659555CA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B9179-1DDE-43CB-BCF2-BC6D4908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A99CF-2D4F-4540-8C1A-B6043829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D968-EBB9-40E1-92FC-CE7EFB9E0B7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D856-BF10-4C10-A240-1AC41AF0E8E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9F95-4925-44CD-8E72-0468F4D36E0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B950-0806-4CE6-86FE-E58D9ECC117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ECE9-1E59-4384-B8BB-FCFA26A35C6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3189-C658-4F8B-AB1C-308130E9912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7218-DECF-45D3-995E-32DA60090B3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0D09-EBE0-44A1-97EA-695B1354BD3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9733-C2DA-4152-8334-33C5A0318D3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F416-C15A-4B1A-A546-83DADBEABB7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DC8C-7893-4896-9429-9940E613BC1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3638-5174-4ABD-851E-7E86E778DD1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41 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sa svet raz pomini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ž sa svet raz pomi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to je verný, nezhy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vojich chceš si, Pane, vzi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ečnú vlasť im dar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Len tam všetko pochopí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dar spásy ocen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Raz pred trónom mil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čistom rúchu svät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blažená zrieť budem môc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voju slávu, velebno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Len tam všetko pochopí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 dar spásy ocením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eď pred tebou budem stá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várou v tvár ťa poznáv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iesňou chvály česť ti vzd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Spasit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môj, Krá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a Pán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Len tam všetko pochopí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 dar spásy ocení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6:14:06Z</dcterms:modified>
  <cp:revision>23</cp:revision>
  <dc:subject/>
  <dc:title>Je veľký náš Pán, on slávy je Kráľ Nech do všetkých strán  spev vrúcnych znie chvál.</dc:title>
</cp:coreProperties>
</file>